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10655"/>
        <c:axId val="99626749"/>
      </c:barChart>
      <c:catAx>
        <c:axId val="76610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26749"/>
        <c:crosses val="autoZero"/>
        <c:auto val="1"/>
        <c:lblAlgn val="ctr"/>
        <c:lblOffset val="100"/>
        <c:noMultiLvlLbl val="0"/>
      </c:catAx>
      <c:valAx>
        <c:axId val="996267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10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60F2-693C-4599-8E88-4CA39A8E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AB5-C4BD-4586-837A-D9F1C1B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41B-37F8-4CF3-880F-581B113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425-221E-4C2A-8E71-E2C2474C3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944-C3E2-4FF4-92DB-F35DAF98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58B-2663-4E4A-B99C-2A1D253D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05F-DBE8-4DE1-9121-19E0C5A7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FFE-C80B-4FB4-8679-83F65974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6A7-D192-4BFA-9D37-C327A8ED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E400-3EC9-4E17-B780-83C0816D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CCD-2505-40C9-8AE8-EA33444D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579-7D64-466D-8165-F8C44D9C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6F01D-EF66-4604-B2FF-5B0F4E509F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