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99541"/>
        <c:axId val="68129452"/>
      </c:barChart>
      <c:catAx>
        <c:axId val="50699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29452"/>
        <c:crosses val="autoZero"/>
        <c:auto val="1"/>
        <c:lblAlgn val="ctr"/>
        <c:lblOffset val="100"/>
        <c:noMultiLvlLbl val="0"/>
      </c:catAx>
      <c:valAx>
        <c:axId val="68129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9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8BB-1D84-442D-B3F3-07C1749C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291-D8A8-4A53-AD65-A03CA3A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8AF-064F-457C-A375-87D0CF5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D29-678F-48E7-9241-85ABE2BD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F5F-9452-4CE5-83DE-AFA0FB9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21A-BD7D-46B0-8CCB-98CA54E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49E-679F-4AC7-821B-0759E85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CB6-9924-4DD9-A3D6-D7B176D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86C-75A2-4D78-8844-3735B459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817-582A-41EB-8903-40F3498C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000-2BF9-481A-ABC4-8247AE6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C5C-B41C-46CF-A008-1F38FC65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3D45F-C7B5-4BDB-8B78-F2E2A81B0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