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50056"/>
        <c:axId val="67605983"/>
      </c:barChart>
      <c:catAx>
        <c:axId val="99450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05983"/>
        <c:crosses val="autoZero"/>
        <c:auto val="1"/>
        <c:lblAlgn val="ctr"/>
        <c:lblOffset val="100"/>
        <c:noMultiLvlLbl val="0"/>
      </c:catAx>
      <c:valAx>
        <c:axId val="67605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0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E9A-7027-4D94-B37E-6C9D244F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A38-8202-4129-BC74-2D67B8F9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E8D-8042-452B-A33B-F35BA637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25E-115B-4FE2-B3F9-A4B980A1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A4B-8F40-4098-8243-FCD0864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7A5-4AF9-4FC4-ACD2-CBD0F88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568-CFB1-47CB-AEFE-19603976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AA4-CDEB-418F-B52F-4FC9FDD5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D40-C83F-4A4B-859A-9AA15E2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4BC-4D48-42D2-A124-2694058A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3D1-12C8-45EA-9EF5-4C015C5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183-F572-4C92-9153-C5FDF6D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4D795-FB39-4595-B77C-51A3D12148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