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9663841"/>
        <c:axId val="22346448"/>
      </c:barChart>
      <c:catAx>
        <c:axId val="2966384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346448"/>
        <c:crosses val="autoZero"/>
        <c:auto val="1"/>
        <c:lblAlgn val="ctr"/>
        <c:lblOffset val="100"/>
        <c:noMultiLvlLbl val="0"/>
      </c:catAx>
      <c:valAx>
        <c:axId val="2234644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66384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F8CCF-7F73-4B89-8507-EBF710C31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14B68-BE6A-446E-ADF2-3FC8B2C79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CC4B9-9A67-4966-8B58-36BB03DB0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6654C-9294-432F-BD56-715EAF474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A768A-66FE-41D2-B2D2-C49433BC2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BB6CB-29FF-4E19-9168-7B037128D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F0AC2-6AFF-48D5-8472-31A4236D4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6C3B0-62D6-41D2-9784-B9780E16E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3D8E1-BF60-4E39-8B21-D4D2388A6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7724F-BDD3-4C6E-B523-D3E68E006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9E155-0006-4322-882A-6A70A729C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44BFA-4E14-4292-A2D0-44F2205DA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2B5B6D-6640-4FE5-A10B-6FA2EC73854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