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050196"/>
        <c:axId val="16704380"/>
      </c:barChart>
      <c:catAx>
        <c:axId val="210501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04380"/>
        <c:crosses val="autoZero"/>
        <c:auto val="1"/>
        <c:lblAlgn val="ctr"/>
        <c:lblOffset val="100"/>
        <c:noMultiLvlLbl val="0"/>
      </c:catAx>
      <c:valAx>
        <c:axId val="167043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501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3C80-03A6-4358-8E81-FE394CC9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C52F-4251-4337-89AC-B99CA388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531F-0DF3-4CAC-8816-8776ECC0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B1D-7485-4D8C-87A6-2D489001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0B63-3628-4BCF-B2CD-847E2BFD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A2CD-F2E4-4427-BCB7-02A3BE5D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7592-222F-46DC-8F3D-3829CA8B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E1D-18F5-4E14-97DA-763B3042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066-4D04-4874-A0A1-F36CABC3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F1DA-5488-4901-BC5D-4F44BBDD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BC88-7087-4B47-90E3-A67A20B3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D40B-A92E-4ADA-B1E4-73462341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A1EFF-B317-449C-ADA3-67AD073E18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