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007197"/>
        <c:axId val="96411893"/>
      </c:barChart>
      <c:catAx>
        <c:axId val="9400719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6411893"/>
        <c:crosses val="autoZero"/>
        <c:auto val="1"/>
        <c:lblAlgn val="ctr"/>
        <c:lblOffset val="100"/>
        <c:noMultiLvlLbl val="0"/>
      </c:catAx>
      <c:valAx>
        <c:axId val="9641189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00719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B4364-B96C-46AB-A41C-9BD268CFC9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DF6FA-1AC7-4B73-BDF3-FF52A5E22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623D-25AE-4EAF-AE3A-EC633F09CD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5B93F-A907-4AD7-9AB4-82148DEC36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C749-A12A-46A8-815A-A4D62E460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108D6-04CF-4D0D-9094-ADE5E07A6C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6AE8-DFA9-40C4-9606-A2E45B67E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002F-5FBC-41DC-9DD6-B139C0210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E6C7-4C1F-4843-BEA3-E60359BF41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83EB6-5770-4D81-83BB-77CEA6AA4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6EDB-B959-45DC-B375-DABAED39C6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E967-9043-4EBB-AC15-759F08DA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A2763C8-D8E6-42B2-858A-33A9FCAC60BE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