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106926"/>
        <c:axId val="13326639"/>
      </c:barChart>
      <c:catAx>
        <c:axId val="36106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26639"/>
        <c:crosses val="autoZero"/>
        <c:auto val="1"/>
        <c:lblAlgn val="ctr"/>
        <c:lblOffset val="100"/>
        <c:noMultiLvlLbl val="0"/>
      </c:catAx>
      <c:valAx>
        <c:axId val="13326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06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58A-3750-4D4A-A6CF-D22DE709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56E-BB8B-4CA2-B649-57AE141F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525-3EB4-45BD-8083-94B8EEBD4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621-2E30-432A-AC46-0FA5D272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158-CDD6-4D52-A0A9-342DE39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192-CA7D-49EE-A57F-96D043DC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390-7FB2-48E4-A6CA-A7CC740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3DB-37BC-444D-8487-D2E2787C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8D6-4EFF-446E-A74E-AF499F8E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6E7-9F31-4CC2-BB73-20785DCD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A60-A4DE-4563-B478-5769CAF8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BF1-C5C5-4B8D-B3D5-D6D2026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76F83-A9EC-4285-99A9-13B85F9D30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