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700626"/>
        <c:axId val="24861853"/>
      </c:barChart>
      <c:catAx>
        <c:axId val="197006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61853"/>
        <c:crosses val="autoZero"/>
        <c:auto val="1"/>
        <c:lblAlgn val="ctr"/>
        <c:lblOffset val="100"/>
        <c:noMultiLvlLbl val="0"/>
      </c:catAx>
      <c:valAx>
        <c:axId val="248618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006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5211-3D73-4C76-94ED-4BB4BAC28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8319-07EA-4395-BB76-96FFB13E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FC48-67E3-4136-94D6-7A2248FAB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E302-ECE2-4A50-8AE3-7E2B3F0F5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004D-C9C9-42A9-A696-ECFFAE2A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2F52-B223-4ABE-B80E-8612512E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39E4-639A-445C-B801-9D9B2F05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BB7B-7F16-4856-883F-E73EA372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3217-9144-4F70-AC27-A1F97811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52FC-EE97-43AE-93D3-37E42F69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19A6-6403-4F3A-A331-400334B0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0277-45E9-4835-A748-68F64B52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08597-D783-4616-98D4-43AC2D74EE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