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10444"/>
        <c:axId val="26412228"/>
      </c:barChart>
      <c:catAx>
        <c:axId val="54710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2228"/>
        <c:crosses val="autoZero"/>
        <c:auto val="1"/>
        <c:lblAlgn val="ctr"/>
        <c:lblOffset val="100"/>
        <c:noMultiLvlLbl val="0"/>
      </c:catAx>
      <c:valAx>
        <c:axId val="26412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10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549-979F-4681-977F-9EA4050F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6F5-3B45-48A2-9735-6AA42110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E05-E2CB-41BB-AE69-E86FF528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AE9-B316-4D83-A8CF-5E1FA878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7EC-B1DD-4A4A-9A25-89650EA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93C-1185-4F93-8104-3A08BFF0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6BD-CC00-4BD4-9D20-216F1CF2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7CE-72FB-4770-8D1E-E641985F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44D-1B15-4AF8-9294-A27CD348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7C0-138F-4DE9-8DD3-A39BF27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E38-2ED0-4EC8-9975-7F279E3F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AF0-C375-4BF4-AD46-1F9BF06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3EF0B-EFBC-47AB-80D8-F60DED313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