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637343"/>
        <c:axId val="93546617"/>
      </c:barChart>
      <c:catAx>
        <c:axId val="816373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46617"/>
        <c:crosses val="autoZero"/>
        <c:auto val="1"/>
        <c:lblAlgn val="ctr"/>
        <c:lblOffset val="100"/>
        <c:noMultiLvlLbl val="0"/>
      </c:catAx>
      <c:valAx>
        <c:axId val="935466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373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7F55-0EE1-4F1E-968B-0289CED0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B2C1-B9DF-4149-B567-3C95F520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BD72-67E7-4D64-B814-6100A0F37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4AA3-42D7-4514-95D7-B9F17BDD5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247F-6B26-4CAF-91FE-7CA86226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C0D6-7137-48AC-AF1B-9905D70B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9C53-6601-4852-9C87-F058B0C2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A7AB-B323-4905-8D78-803050BA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6BC6-8BCB-4444-A190-9E16CF80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C1BD-3569-4B37-9C37-9D0AF3B7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81CB-3564-4908-840F-C68796FF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7265-E5F5-4A43-93CC-3A609288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E256D-5749-4CEF-99E7-2D75C32E36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