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7032"/>
        <c:axId val="80857441"/>
      </c:barChart>
      <c:catAx>
        <c:axId val="54027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57441"/>
        <c:crosses val="autoZero"/>
        <c:auto val="1"/>
        <c:lblAlgn val="ctr"/>
        <c:lblOffset val="100"/>
        <c:noMultiLvlLbl val="0"/>
      </c:catAx>
      <c:valAx>
        <c:axId val="80857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7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747-66B7-4A65-ABEE-22CCB436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EE9-2399-4C48-8BB9-B38BD3F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DAF-4F90-4D91-A7CD-FFEF060B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10F-0676-47D8-9741-E429A04C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28A-8348-4D5E-9AFD-771D7642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DAC-EB08-4352-A9AD-2BAA762B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6A-176E-4268-A906-61A11AA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E7E-86B5-45F4-9399-6C048F64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1AA-2458-44C6-98E6-22D3D41B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F51-E9E1-4D9C-A133-A72109D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134-1697-45D0-8D7E-EE1E5EC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2A8-980E-4B37-B439-8BF75D4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69656-7FD5-4856-BFE5-77930203F5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